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0CC4-1DEA-4D37-9C12-2C62F4FA46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A951-367D-4153-AA8D-1D70165545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69E2-54AF-4397-9360-432F8D31FE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4442-A318-4BC2-B888-3C965E4713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D23F-D401-4FCD-97B5-89CC0D15B6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21EF-E663-48B9-90BF-3656889A10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4168-0229-4C32-9AD9-B6BF18D950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E769-77DA-445D-9D87-F9500DF8A1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A526-BD32-42D8-A57A-616C35B3A3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FBA5-A19B-4628-B9B4-C26241C919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521D-AA0A-427B-AB49-0C23B48A1C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1689-8D31-4959-8047-052249C277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B440-D192-4352-B620-304256DCF6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5384-4054-491D-B470-1FB8DBCF2E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9FB3-1CAB-4161-8CC5-3821A4C06D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8981-9588-4305-AAF3-C9DE022299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35C4-962D-405A-B4E2-E89E82DF5C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F851-2AEB-44B4-9F3F-0F5B6A745C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888C-D2C6-48EF-80AE-21F834198E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934F-695C-463A-AAF3-EE804D8CC3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B643-83E4-483F-B924-CD64E32148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BF2F-6405-4D9D-9A71-64512F26C9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8F7C-CC34-4EA4-89A7-695622423A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991-F881-4D96-9E09-499AD6B5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AB8F-241C-41F7-B63F-FBEBD3ED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F15F-87FB-485D-912D-E71C7AC3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770-FC20-466F-B4EF-45ECA7AD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0F7F-792A-4548-AEE8-C8F2D351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1A2-06DB-470F-8968-B84AA843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6F0-F9A2-4D56-B625-C4939793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E3B0-5192-4FCF-BBF7-DE308830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03D-5D07-4D71-B0B7-22C81493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3CE9-2973-48AA-8D01-6489108E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BD8C-9918-4E36-9478-B07026F4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A2D-5101-4EE4-899C-17DA4EDB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1E6C-5808-4919-93A3-1BD1B4983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Neil Jones\My Documents\My Pictures\antonio.jpg"/>
          <p:cNvPicPr/>
          <p:nvPr/>
        </p:nvPicPr>
        <p:blipFill>
          <a:blip r:embed="rId1"/>
          <a:stretch/>
        </p:blipFill>
        <p:spPr>
          <a:xfrm>
            <a:off x="-380880" y="0"/>
            <a:ext cx="10515600" cy="6973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4602240" y="4724280"/>
            <a:ext cx="3833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ste chico se llama Anto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¿Dónde v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¿Cuántos años tie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286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reser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286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perd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86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dej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286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Pu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886200" y="228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929040" y="20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lqui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886200" y="1143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c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8862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mp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38862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Qui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8862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38862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ambi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228600" y="228600"/>
            <a:ext cx="3429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pue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228600" y="228600"/>
            <a:ext cx="34290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ich of the verbs li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re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o chang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3929040" y="5715000"/>
            <a:ext cx="3429000" cy="795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286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reser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286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perd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286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dej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2286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Pu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886200" y="228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929040" y="20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lqui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886200" y="1143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c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8862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mp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38862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Qui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8862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38862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ambi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28600" y="228600"/>
            <a:ext cx="3429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pue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228600" y="228600"/>
            <a:ext cx="34290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ich of the verbs li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re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o buy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3929040" y="3000240"/>
            <a:ext cx="3429000" cy="795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286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reser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286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perd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286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dej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286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Pu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886200" y="228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6200" y="20574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lqui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3886200" y="1143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c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38862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mp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38862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Qui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38862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38862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ambi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228600" y="228600"/>
            <a:ext cx="3429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pue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228600" y="228600"/>
            <a:ext cx="34290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ich of the verbs li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re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It ope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3929040" y="285840"/>
            <a:ext cx="3429000" cy="795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2286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reser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perd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286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dej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286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Pu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886200" y="228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929040" y="20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lqui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3886200" y="1143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c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8862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mp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8862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Qui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8862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38862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ambi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228600" y="228600"/>
            <a:ext cx="3429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pue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228600" y="228600"/>
            <a:ext cx="34290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ich of the verbs li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re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I c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285840" y="5715000"/>
            <a:ext cx="3429000" cy="795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286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reser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286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perd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286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dej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286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Pu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3886200" y="228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6200" y="20574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lqui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3886200" y="1143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c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8862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mp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38862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Qui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38862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38862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ambi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228600" y="228600"/>
            <a:ext cx="3429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pue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228600" y="228600"/>
            <a:ext cx="34290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ich of the verbs li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re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It clos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3929040" y="1143000"/>
            <a:ext cx="3429000" cy="795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286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reser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286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perd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286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dej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286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Pu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886200" y="228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20574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lqui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86200" y="1143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c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38862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mp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38862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Qui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38862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38862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ambi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228600" y="228600"/>
            <a:ext cx="3429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pue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28600" y="228600"/>
            <a:ext cx="34290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ich of the verbs li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re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o reserve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14200" y="3000240"/>
            <a:ext cx="3429000" cy="795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2286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reser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2286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perd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2286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dej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2286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Pu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3886200" y="228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20574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lqui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3886200" y="1143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c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38862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mp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38862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Qui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38862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8862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ambi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228600" y="228600"/>
            <a:ext cx="3429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pue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228600" y="228600"/>
            <a:ext cx="34290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ich of the verbs li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re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I have lef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214200" y="4786200"/>
            <a:ext cx="3429000" cy="795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2286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reser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2286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perd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86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dej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286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Pu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3886200" y="228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6200" y="20574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lqui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3886200" y="1143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c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38862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mp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38862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Qui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38862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38862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ambi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28600" y="228600"/>
            <a:ext cx="3429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pue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228600" y="228600"/>
            <a:ext cx="34290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ich of the verbs li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re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o 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3857760" y="4857840"/>
            <a:ext cx="3429000" cy="795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2286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reser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286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perd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286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dej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286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Pu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3886200" y="228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886200" y="20574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lqui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3886200" y="1143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c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38862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mp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8862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Qui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8862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38862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ambi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228600" y="228600"/>
            <a:ext cx="3429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pue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228600" y="228600"/>
            <a:ext cx="34290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ich of the verbs li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re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I have los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285840" y="3929040"/>
            <a:ext cx="3429000" cy="795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2"/>
          <p:cNvSpPr/>
          <p:nvPr/>
        </p:nvSpPr>
        <p:spPr>
          <a:xfrm>
            <a:off x="3071880" y="6019920"/>
            <a:ext cx="3429000" cy="838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un bille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5143680" y="5019840"/>
            <a:ext cx="3429000" cy="838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un coc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5715000" y="4019400"/>
            <a:ext cx="3429000" cy="8384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mi pasapor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5715000" y="3019320"/>
            <a:ext cx="3429000" cy="8384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00"/>
                </a:solidFill>
                <a:latin typeface="Calibri"/>
              </a:rPr>
              <a:t>ayuntamient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5143680" y="2019240"/>
            <a:ext cx="3429000" cy="8384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0000"/>
                </a:solidFill>
                <a:latin typeface="Calibri"/>
              </a:rPr>
              <a:t>una ida y vuel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3000240" y="1090440"/>
            <a:ext cx="3429000" cy="8384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Calibri"/>
              </a:rPr>
              <a:t>una habit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428760" y="5019840"/>
            <a:ext cx="3429000" cy="838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un pi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0" y="4019400"/>
            <a:ext cx="3429000" cy="8384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mi male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0" y="3019320"/>
            <a:ext cx="3429000" cy="8384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la tien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428760" y="2019240"/>
            <a:ext cx="3429000" cy="8384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0000"/>
                </a:solidFill>
                <a:latin typeface="Calibri"/>
              </a:rPr>
              <a:t>en el primer pis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2"/>
          <p:cNvSpPr/>
          <p:nvPr/>
        </p:nvSpPr>
        <p:spPr>
          <a:xfrm>
            <a:off x="214200" y="0"/>
            <a:ext cx="6215040" cy="855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I want to buy a ticke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214200" y="142920"/>
            <a:ext cx="6215040" cy="703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Quiero comprar un bill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4"/>
          <p:cNvSpPr/>
          <p:nvPr/>
        </p:nvSpPr>
        <p:spPr>
          <a:xfrm>
            <a:off x="214200" y="214200"/>
            <a:ext cx="6215040" cy="627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I want to go to the town hal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5"/>
          <p:cNvSpPr/>
          <p:nvPr/>
        </p:nvSpPr>
        <p:spPr>
          <a:xfrm>
            <a:off x="214200" y="214200"/>
            <a:ext cx="6215040" cy="703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Quiero ir al ayunt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214200" y="428760"/>
            <a:ext cx="621504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reserve a double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7"/>
          <p:cNvSpPr/>
          <p:nvPr/>
        </p:nvSpPr>
        <p:spPr>
          <a:xfrm>
            <a:off x="214200" y="0"/>
            <a:ext cx="6215040" cy="1068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ero reservar una habitación do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8"/>
          <p:cNvSpPr/>
          <p:nvPr/>
        </p:nvSpPr>
        <p:spPr>
          <a:xfrm>
            <a:off x="214200" y="357120"/>
            <a:ext cx="621504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ime does the shop o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9"/>
          <p:cNvSpPr/>
          <p:nvPr/>
        </p:nvSpPr>
        <p:spPr>
          <a:xfrm>
            <a:off x="214200" y="357120"/>
            <a:ext cx="6215040" cy="627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¿A qué hora abre la tienda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0"/>
          <p:cNvSpPr/>
          <p:nvPr/>
        </p:nvSpPr>
        <p:spPr>
          <a:xfrm>
            <a:off x="214200" y="0"/>
            <a:ext cx="6215040" cy="627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I have lost my suitca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1"/>
          <p:cNvSpPr/>
          <p:nvPr/>
        </p:nvSpPr>
        <p:spPr>
          <a:xfrm>
            <a:off x="214200" y="0"/>
            <a:ext cx="6215040" cy="703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e perdido mi male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2"/>
          <p:cNvSpPr/>
          <p:nvPr/>
        </p:nvSpPr>
        <p:spPr>
          <a:xfrm>
            <a:off x="214200" y="0"/>
            <a:ext cx="6215040" cy="855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I want to rent a fl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3"/>
          <p:cNvSpPr/>
          <p:nvPr/>
        </p:nvSpPr>
        <p:spPr>
          <a:xfrm>
            <a:off x="214200" y="214200"/>
            <a:ext cx="6215040" cy="703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Quiero alquilar un pi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4"/>
          <p:cNvSpPr/>
          <p:nvPr/>
        </p:nvSpPr>
        <p:spPr>
          <a:xfrm>
            <a:off x="214200" y="0"/>
            <a:ext cx="6215040" cy="106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have left my passport in my bed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5"/>
          <p:cNvSpPr/>
          <p:nvPr/>
        </p:nvSpPr>
        <p:spPr>
          <a:xfrm>
            <a:off x="214200" y="0"/>
            <a:ext cx="6215040" cy="1161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He dejado mi pasaporte en mi habitació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Neil Jones\My Documents\My Pictures\antonio.jpg"/>
          <p:cNvPicPr/>
          <p:nvPr/>
        </p:nvPicPr>
        <p:blipFill>
          <a:blip r:embed="rId1"/>
          <a:stretch/>
        </p:blipFill>
        <p:spPr>
          <a:xfrm>
            <a:off x="-380880" y="0"/>
            <a:ext cx="10515600" cy="6973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4602240" y="4724280"/>
            <a:ext cx="3833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ste chico se llama Anto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ve en Pampl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ene dieciséis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rds.yahoo.com/_ylt=A0WTb_xCvEJI8lgAgCCjzbkF/SIG=12j4d2sfg/EXP=1212419522/**http%3A//www.cnn.com/WORLD/9707/07/spain.bulls/spain.pamplona.jpg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817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428760" y="714240"/>
            <a:ext cx="8215200" cy="52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y that you want to book a 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y for 2 peo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ith breakfast on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y you stayed there last y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y that you only have a small suit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De dónde er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y de..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 vivo en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Estás aquí para cuánto tiemp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ra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428760" y="714240"/>
            <a:ext cx="8215200" cy="52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y that you want to change 100 pounds (libr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y you have left your passport in your hot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y that your hotel is far away (lej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y where you stayed last night (anoch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y that you have a credit c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De dónde er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y de..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 vivo en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Cuándo vuelves a Inglaterr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ñana / la semana que vie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1071720" y="214200"/>
            <a:ext cx="3071520" cy="4117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would you say these in Span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re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t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4786200" y="214200"/>
            <a:ext cx="3071880" cy="411732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b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si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er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oj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rer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mb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785880" y="4357800"/>
            <a:ext cx="7500960" cy="2288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how would you say them using the preter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baj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s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er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 aloj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3714840" y="4857840"/>
            <a:ext cx="4500360" cy="1557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 q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 vi (NOTE- no  acc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. f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 camb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28600" y="533520"/>
            <a:ext cx="8686800" cy="3476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¿Antonio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asó sus vacaciones en España o en el extranjero</a:t>
            </a:r>
            <a:r>
              <a:rPr b="1" lang="en-GB" sz="4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¿Qué opinas?</a:t>
            </a:r>
            <a:r>
              <a:rPr b="0" lang="en-GB" sz="5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80880" y="228600"/>
            <a:ext cx="83822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ort through the cards + build up the case for each argumen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¿</a:t>
            </a:r>
            <a:r>
              <a:rPr b="1" lang="en-US" sz="60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España</a:t>
            </a:r>
            <a:r>
              <a:rPr b="1" lang="en-GB" sz="60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¿</a:t>
            </a:r>
            <a:r>
              <a:rPr b="1" lang="en-US" sz="60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El extranjero</a:t>
            </a:r>
            <a:r>
              <a:rPr b="1" lang="en-GB" sz="60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Documents and Settings\Neil Jones\My Documents\My Pictures\antonio 2.jpg"/>
          <p:cNvPicPr/>
          <p:nvPr/>
        </p:nvPicPr>
        <p:blipFill>
          <a:blip r:embed="rId1"/>
          <a:stretch/>
        </p:blipFill>
        <p:spPr>
          <a:xfrm>
            <a:off x="6553080" y="2286000"/>
            <a:ext cx="1749600" cy="2362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304920" y="5181480"/>
            <a:ext cx="85341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Your answer must be based on the information given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 FIND YOUR EVIDENCE!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Write down your conclusions in full in Engl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857240" y="0"/>
            <a:ext cx="7332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Neil Jones\My Documents\My Pictures\spanish flag.png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http://es.wrs.yahoo.com/_ylt=A0WTf2mUQ4hIeEMARdye.Qt./SIG=12fn1e4id/EXP=1216976148/**http%3A//ec.europa.eu/fisheries/images/carte_coralreef_es.jpg"/>
          <p:cNvPicPr/>
          <p:nvPr/>
        </p:nvPicPr>
        <p:blipFill>
          <a:blip r:embed="rId2"/>
          <a:stretch/>
        </p:blipFill>
        <p:spPr>
          <a:xfrm>
            <a:off x="900000" y="-76320"/>
            <a:ext cx="7162920" cy="6985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1071720" y="263520"/>
            <a:ext cx="3051000" cy="4748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Times New Roman"/>
              </a:rPr>
              <a:t>Las Islas Canari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82760" y="3751200"/>
            <a:ext cx="2842920" cy="1617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as Islas Canarias forman parte del Estado Español.</a:t>
            </a:r>
            <a:r>
              <a:rPr b="0" lang="en-GB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spain_fi_lg_clr"/>
          <p:cNvPicPr/>
          <p:nvPr/>
        </p:nvPicPr>
        <p:blipFill>
          <a:blip r:embed="rId3"/>
          <a:stretch/>
        </p:blipFill>
        <p:spPr>
          <a:xfrm>
            <a:off x="3022560" y="2989440"/>
            <a:ext cx="1582920" cy="1199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642960" y="785880"/>
            <a:ext cx="7858080" cy="512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n a piece of paper, write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r 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topic your presentation is 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umber the following 1-6 depending on what you want to be as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 = absolutely   6=please no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is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ur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use and h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rsonal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cal a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286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reser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286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perd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286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dej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286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Pu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886200" y="228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6200" y="20574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lqui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3886200" y="1143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c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38862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mp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38862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Qui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38862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38862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ambi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228600" y="228600"/>
            <a:ext cx="3429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pue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228600" y="228600"/>
            <a:ext cx="34290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ich of the verbs li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re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o hire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3929040" y="2071800"/>
            <a:ext cx="3429000" cy="795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286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reser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286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perd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286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he dej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286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Pue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886200" y="228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886200" y="20574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lqui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886200" y="1143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c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886200" y="29718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mpr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886200" y="38862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Qui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3886200" y="48006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3886200" y="571500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ambi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228600" y="228600"/>
            <a:ext cx="34290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Se pue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228600" y="228600"/>
            <a:ext cx="34290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ich of the verbs li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re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o go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3929040" y="4857840"/>
            <a:ext cx="3429000" cy="795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8:35:47Z</dcterms:created>
  <dc:creator>Owner1</dc:creator>
  <dc:description/>
  <dc:language>en-US</dc:language>
  <cp:lastModifiedBy>Chris</cp:lastModifiedBy>
  <dcterms:modified xsi:type="dcterms:W3CDTF">2009-02-26T17:58:47Z</dcterms:modified>
  <cp:revision>5</cp:revision>
  <dc:subject/>
  <dc:title>Slide 1</dc:title>
</cp:coreProperties>
</file>